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5D1-17F1-43C2-ADCF-31C912A2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43A-7B08-4B34-856A-5CFB7B61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F5A2-9D4C-4BF3-BCC4-313C79A0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B0D9-D268-4D43-AC5E-5901D74C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581C-CD1A-4B80-A428-28741266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3379-0E67-4162-998B-5AA179ED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7478-0D08-4041-ACD3-85AC3E5F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3C58-01C2-44F4-BDA9-6BB242D4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E49-D3FE-4559-915D-79BD1907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1C0D-DC5B-45EC-87AD-76978F5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E6F-AAD3-419B-A8D1-87F9D9FB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77E5-F009-46EB-A1D1-01CE581F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EDA1-38E6-4539-8A7B-84C9099F2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lson Mandela Foundatio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Community Dialo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know we are making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logos 002"/>
          <p:cNvPicPr/>
          <p:nvPr/>
        </p:nvPicPr>
        <p:blipFill>
          <a:blip r:embed="rId1"/>
          <a:srcRect l="0" t="0" r="0" b="25000"/>
          <a:stretch/>
        </p:blipFill>
        <p:spPr>
          <a:xfrm>
            <a:off x="0" y="-12600"/>
            <a:ext cx="701640" cy="6858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evaluate community dialogu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ability – upwards, peers &amp; down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capacity to reflect, analyse, learn and use learning to improve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te and build on streng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from weakn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what works – wid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trengthen the dialog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&amp;E tools are a vehicle for collective discussion, analysis, problem-solving &amp;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 evaluatio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need to know? Who needs what inform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? For wh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? Who should be involv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we ensure qual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resource and suppor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engths of participatory M&amp;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ts with dialogue principle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ses the learning potential of eval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ses marginalised v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sters ownership of and commitment to th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iders facilitate, insiders evalu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r long-term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sitive alternative to “policing” e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ve you learned from collecting stories of change from dialogue participa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20:39:38Z</dcterms:created>
  <dc:creator>Ailish Byrne</dc:creator>
  <dc:description/>
  <dc:language>en-US</dc:language>
  <cp:lastModifiedBy>OWNER</cp:lastModifiedBy>
  <dcterms:modified xsi:type="dcterms:W3CDTF">2010-11-18T13:23:56Z</dcterms:modified>
  <cp:revision>11</cp:revision>
  <dc:subject/>
  <dc:title>Evaluating Community Dialogues</dc:title>
</cp:coreProperties>
</file>